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2F7-71FB-47C2-A888-B399EC64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B48-BD7D-4B27-9A99-6D5FDB90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CE6-26E8-4181-BB08-83CF6F25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226-3091-436E-82BF-2AE58312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D08-5E85-4A85-BFCB-2D6F9C35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177-3EC4-47BE-857E-17BED86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9D4-2A6C-4292-A613-B48BD34E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697-5B19-42A2-B1E7-2C0230C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FDE-95E5-47E2-B0E7-33594A0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BF1-F34F-4E28-A25B-F82AF63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D3A-9B90-4C35-AD81-78188255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C41-44DA-494C-8E35-86A7AD63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CB0B-81E9-42BC-9102-F9A388D5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7040" y="1678320"/>
            <a:ext cx="950580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00ccff"/>
                </a:solidFill>
                <a:latin typeface="comic"/>
              </a:rPr>
              <a:t>30</a:t>
            </a:r>
            <a:r>
              <a:rPr b="1" lang="bg-BG" sz="4800" spc="-1" strike="noStrike">
                <a:solidFill>
                  <a:srgbClr val="99ffcc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ошел е пак денят на свят покой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о от начало Бог избра за Свой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Свободни днес от светските дела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принесем ние жертва на хвал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4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59920" y="2001600"/>
            <a:ext cx="917208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а Бога този ден да посветим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се научим вярно да вървим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В небесен път Бог да благовол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и да приеме нашите молб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72720" y="19440"/>
            <a:ext cx="929124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Небесни Отче, в тоз опасен пъ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бъди Вожд наш през земния живо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Ще хвалим Твойта Бащина любов -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да бъде Тебе слава в век век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9:26Z</dcterms:created>
  <dc:creator>TrifonTrifonow</dc:creator>
  <dc:description/>
  <dc:language>en-US</dc:language>
  <cp:lastModifiedBy>TrifonTrifonow</cp:lastModifiedBy>
  <dcterms:modified xsi:type="dcterms:W3CDTF">2005-11-21T12:29:05Z</dcterms:modified>
  <cp:revision>7</cp:revision>
  <dc:subject/>
  <dc:title>Slide 1</dc:title>
</cp:coreProperties>
</file>